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E490-0F72-4C31-AF17-18244C3E7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B485-F7AA-4FD6-93D4-BE4740831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99DD-828A-4E1E-90DB-304F57EBB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A6B9-E4F1-410A-BD4D-B659D2A06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3B1B-CEBB-4025-B202-3B3A688E5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7491-DF9E-4811-99C3-CEA0A851F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C8DE-D3FB-4957-9381-5C1D3C6AA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FE7E-DBF3-46E8-B6F9-34D6D673F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CD71-6E71-4A5A-B496-DA4FB7D7C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1A78-66A9-459A-875C-D72A68C17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2114-4E58-4B38-A2BA-13307A18B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A1A8-5CFC-41FF-9B80-F68FA9868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A21-EFDF-40F9-997D-6A1D00C67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ADEC-6C18-4EF7-954D-A7F397E85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1362-7DC3-48A8-AA18-25B244C42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5BD6-CC10-44B4-9BC7-D5CA32BF3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0E0C-D243-4982-9D26-32A5A6F7E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55EB-CE62-4BAA-8E9E-C8BCEC853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525B-654C-48A0-96CD-D4C7F9B45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90BC-CA0E-4196-97F1-9D42BA284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5F7F-F3D6-49A3-8F1A-68C2751A4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55F5-A969-4E34-A9D6-7F6353926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538-4F5E-4E45-A0C5-CA5EA588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7D3-41E6-446B-AC67-064D541B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254-29D3-42F0-86CC-F3CD1F8C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E18-6C96-4DB8-8E0B-308DDDB7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95F-63AE-4052-AF79-388FC8D9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E4A-9035-4533-8F67-89B0FE5E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030-B02B-4956-AA7E-F377CFCB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4C7-654E-4681-B2BF-DC93AC33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E81-2571-42A9-AB35-C78CB5BA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4B0-B041-40BE-89E7-704AA61C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918-9C77-48AD-A575-7730C286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72F-FA2D-46C6-8BE5-2A0477C1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85C3-4B9F-434C-B0FD-C7B939AB31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4.2/Ora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NSFERTAT BANKARE, MARRJA E KONTROLLIT TW/HAPJA E LLOGARIVE BANK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tradicional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elët kibernetikë vazhdojnë të mbështeten në shërbimet tradicionale bank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jo është veçanërisht e rëndësishme në çështjet që kanë të bëjnë me tërheqjen e parave nga llogaritë bankare të viktimë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tradicional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Brenda sektorit bankar tradicional, cilat teknika mund të përdoren për të fshehur burimet e fondeve të nxjerra nga llogaria bankare e viktimë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ransfertës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logaritë bankare të viktimave komprometohen përmes teknikave të ndryshme të krimit në Internet (p.sh. Nëpërmjet programeve phishing, malware për marrjen e paautorizuar të të dhënav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ërfitues të rinj i shtohen llogarisë bankare të viktimës dhe fondet transferohen në llogaritë e mushkave (ndërmjetësv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ndet tërhiqen në para kesh ose transferohen në destinacione të tje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tat bëhen në sasi të vogla për të shmangur limitet e raportimi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uktura komplekse të transfertave të pakuptimta në llogaritë e mushkave (ndërmjetësve) përdoren për të fshehur burimin e fonde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brojtja e Klientë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kontrollesh përdorin institucionet financiare për të parandaluar keqpërdorimin e kredencialeve bankare të kompromentuara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35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e mund të përdoren për të demonstruar përdorimin e transfertave bank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transfertave bank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ËRHEQJET E PARAVE KE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sfidash paraqesin paratë kesh për keqbërësit kibernetikë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350028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ërheqjes së Para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ë disa raste të krimit kibernetik, siç është krimi në lidhje me kartën e pagesave, të ardhurat nga krimet tërhiqen menjëherë në para ke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ë raste të tjera, të ardhurat nga llojet e tjera të krimit transferohen në llogaritë e mushkave (ndërmjetësve), nga të cilat tërhiqen më pa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ratë kesh zakonisht rifuten në sistemin financiar përmes një shumëllojshmërie teknikash të tilla si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erja e kartave të debisë të llojeve të ndryshme (p.sh. Krediti i dyqaneve, krediti i telefonave celularë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dorimi i mushkave (ndërmjetësve) të parave ose llogaritë bankare të kompromentua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ë kriminale të përdorimit të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ruesve të Remitanc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bankare, Marrja/Hapja e Llogarive Bank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ërheqja e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ërbimet e pagesave në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Tërheqje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tërheqje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ërheqjeve të Para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tërheqje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GESAT E SHËRBIMEVE NË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Shërbim i Pagesave në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Shërbimit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42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ndet e fituara kriminalisht transferohen tek një llogari e Shërbimit të Pagesave në Intern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y altern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ërbimi i Pagesave në Internet ofron shërbime të ngjashme me një llogari bankare online, rast në të cilin përdoren tipologji të ngjashme me "transfertat bankare/krijimin/marrjen e kontrollit të llogarisë bankare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ndet e mbajtura me Shërbimin e Pagesave në Internet përdoren për të blerë produkte dhe shërbime në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85228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fondeve të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3500280"/>
            <a:ext cx="822960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w lidhje me ngrirjen, sekuestrimin dhe konfiskimin e fondeve të mbajtura nga një ofrues i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ruesit e Remitanc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Bankare, Hapja/marrja kontroll e Llogarive Bank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ërheqjet ke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ërbimet e Pagesave në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3451320" y="450864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RUESIT E REMITANC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ofrues remitanc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63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ofrues remitanc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i është problemi me ofruesit e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ë (me dijeni dhe pa dijeni) rekrutohen si mushka (ndërmjetës) në skemën e pastrimit, shpesh përmes ofertave të "punës në shtëpi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ë ardhurat nga krimi transferohen në llogaritë bankare të mushkave (ndërmjetësv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hka (ndërmjetësi) tërheq paratë dhe e transferon paranë kesh tek një përfitues të caktu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hka (ndërmjetësi) mban një pagesë si komision për kryerjen e këtij shërbi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imet zakonisht janë të një sasie më të ulët se kufiri i raportimit, për të shmangur zbulimi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ruesit e remitancave përdoren përsëri për të zhvendosur paratë drejt destinacionit përfundimt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Bashkëpunimit për Ofrues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708280"/>
            <a:ext cx="82296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në identifikuar raste kur përdorimi i gjerë i ofruesve të remitancave të veçanta ka krijuar shqetësime rreth bashkëveprimit të mundshëm ose infiltrimit të këtyre biznese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267920"/>
            <a:ext cx="9036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ofruesve të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85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ofruesve të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ori</cp:lastModifiedBy>
  <cp:lastPrinted>2016-05-18T07:38:13Z</cp:lastPrinted>
  <dcterms:modified xsi:type="dcterms:W3CDTF">2017-10-05T14:54:03Z</dcterms:modified>
  <cp:revision>324</cp:revision>
  <dc:subject/>
  <dc:title>PowerPoint Presentation</dc:title>
</cp:coreProperties>
</file>